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EC4-9E65-4A14-8938-DC79D8D3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EEA-6D7F-49C1-BA6B-3E95733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5C0-7B95-4516-9965-50158295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A27-638F-480A-B482-CEF3017D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E93-73CE-4F1E-9719-5196453F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F28-CB39-4EDB-8797-A4E64A6B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692-53D5-4C42-A4F8-F60A6B68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408-388E-4C18-B60E-9DB9001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DAC-95F2-4F55-B8AD-0E98F2B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596-039C-45AB-85F5-777EFD5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B64-9CB1-4FC2-9D71-943B5AE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E51-4DA6-4608-9B72-13C5332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A4D-18FA-44A1-A203-6948E0D0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edieval2.heavengames.com/m2tw/history/miscellaneous_history_folder/mongol_weapons/talwar.jpg&amp;imgrefurl=http://www.twcenter.net/forums/showthread.php%3Ft%3D353575&amp;usg=__FNfW2U05xD4Me_vO1rUm4ItDogY=&amp;h=599&amp;w=800&amp;sz=91&amp;hl=en&amp;start=19&amp;zoom=1&amp;itbs=1&amp;tbnid=D1N4_hg-ynSk5M:&amp;tbnh=107&amp;tbnw=143&amp;prev=/images%3Fq%3Drussian%2Bweapons%2Bused%2Bagainst%2Bmongols%2Bin%2Bhistory%26hl%3Den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1000_Ivan_III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IC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840" y="2133720"/>
            <a:ext cx="46324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8320" y="2114640"/>
            <a:ext cx="44956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cy appearances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show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mageShack, share photos, pictures, free image hosting, free video hosting, image hosting, video hosting, photo image hosting site, video hosting site"/>
          <p:cNvPicPr/>
          <p:nvPr/>
        </p:nvPicPr>
        <p:blipFill>
          <a:blip r:embed="rId1"/>
          <a:stretch/>
        </p:blipFill>
        <p:spPr>
          <a:xfrm>
            <a:off x="-990720" y="0"/>
            <a:ext cx="1112544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stock photo : Russian czar Ivan III. Detail of the Monument to the Millennium of Russia from 1864 in Veliky Novgorod,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4479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ng Ivan the th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1000 Ivan II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371760" cy="550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ic terri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962520"/>
            <a:ext cx="3733920" cy="485640"/>
          </a:xfrm>
          <a:prstGeom prst="leftArrow">
            <a:avLst>
              <a:gd name="adj1" fmla="val 50000"/>
              <a:gd name="adj2" fmla="val 192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n Slavs Battle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ageShack, share photos of skythicon, share pictures of skythicon, share video of skythicon, free image hosting, free video hosting, image hosting, video hosting.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86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4800" y="3200400"/>
            <a:ext cx="5029200" cy="1247760"/>
          </a:xfrm>
          <a:prstGeom prst="leftArrow">
            <a:avLst>
              <a:gd name="adj1" fmla="val 50000"/>
              <a:gd name="adj2" fmla="val 100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 </cp:lastModifiedBy>
  <dcterms:modified xsi:type="dcterms:W3CDTF">2010-12-20T14:00:56Z</dcterms:modified>
  <cp:revision>12</cp:revision>
  <dc:subject/>
  <dc:title>HISTORY BEFORE 1917</dc:title>
</cp:coreProperties>
</file>